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67278"/>
        <c:axId val="41583705"/>
      </c:barChart>
      <c:catAx>
        <c:axId val="65267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83705"/>
        <c:crosses val="autoZero"/>
        <c:auto val="1"/>
        <c:lblAlgn val="ctr"/>
        <c:lblOffset val="100"/>
        <c:noMultiLvlLbl val="0"/>
      </c:catAx>
      <c:valAx>
        <c:axId val="41583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67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C8C-F24A-441C-AA08-5889641C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C87-8408-4CDD-ADB2-55FBDE69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6EC-A685-49CB-AE60-E06FA63A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943-D4BD-4AE0-8ED8-F380DD35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D00-67FE-4E49-93C8-230375C5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533-DDF7-4C7C-8ED3-3D272791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771-64DA-4AEE-A144-07E8BD98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E05-4F7E-40CE-BE2F-2EE82CD4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5CD-CC53-4048-88CB-1BC300CF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0EC-6224-4CC7-9E55-1A41F0CE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3A6-7EA1-4E0D-BB0D-0F2F31BF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1BE-2DDB-401E-A00C-3FC1BA25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4FFE1-6900-4CA1-A3F3-24739C897F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