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4487513"/>
        <c:axId val="41486948"/>
      </c:barChart>
      <c:catAx>
        <c:axId val="244875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486948"/>
        <c:crosses val="autoZero"/>
        <c:auto val="1"/>
        <c:lblAlgn val="ctr"/>
        <c:lblOffset val="100"/>
        <c:noMultiLvlLbl val="0"/>
      </c:catAx>
      <c:valAx>
        <c:axId val="414869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4875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8C10-31D5-44A5-9FEF-2AD99780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27B2E-FC1D-4B3E-AA72-5BD25B49F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F329-8204-4E1C-BD4B-689F6C9A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B181F-0D9D-4436-B9C3-16DC674B8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1D5F-8814-4606-B5C5-CE60FC5CB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E62C-224C-4AF6-B660-91F1A0E28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C6C7-2F72-4CF9-B2D6-C0250DFB4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7C77-94BA-4408-9605-F82C1BAF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DFA-3B3F-4FA8-BEEF-4824213E7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7DE1-CB5A-47E4-AE10-6F2319E6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EBE08-0D57-4BD9-A63B-5D835D600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53EE-8DA9-42C4-9562-EA1B143B7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5E7B36-1676-4813-AE5F-27A86BABDD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