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294838"/>
        <c:axId val="32218227"/>
      </c:barChart>
      <c:catAx>
        <c:axId val="302948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18227"/>
        <c:crosses val="autoZero"/>
        <c:auto val="1"/>
        <c:lblAlgn val="ctr"/>
        <c:lblOffset val="100"/>
        <c:noMultiLvlLbl val="0"/>
      </c:catAx>
      <c:valAx>
        <c:axId val="322182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948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E53A-7640-4C43-819B-0CEC0EF9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D9BF-5EED-4A24-8925-B24D61E3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3B64-710B-42F0-9B59-E7663CC2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0F7B-2294-427B-B952-2C9D73EB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7F9D-4490-4127-836B-5785C7F9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9799-D220-4242-84BA-87958599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A540-3ABC-43AD-AF1F-B1BF6F30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4DBC-217A-4E63-A553-2038833F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C80E-946F-4136-B0A1-52172E23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A548-F03F-4F43-9DB3-CE51C0CD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8C40-E49E-401A-9DB5-56E1F31B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4F79-7467-4515-9E94-83D5D987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BA4BE-F671-421C-B59E-535E2D1278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