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66594"/>
        <c:axId val="10221018"/>
      </c:barChart>
      <c:catAx>
        <c:axId val="50966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1018"/>
        <c:crosses val="autoZero"/>
        <c:auto val="1"/>
        <c:lblAlgn val="ctr"/>
        <c:lblOffset val="100"/>
        <c:noMultiLvlLbl val="0"/>
      </c:catAx>
      <c:valAx>
        <c:axId val="10221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66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F20-B9CF-45FA-BACB-DA11DD11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501-B844-4094-99B5-F726E36A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C67-8ECB-41BB-ADF7-1800431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7F7-4263-4731-A327-459C7102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436-5C97-4EBD-8C5E-875F7C05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E94-182F-47A2-AB7F-4135BE9A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1F7-B4B1-4C15-8125-5637EAD3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E6B-6991-44A6-968D-BB131C5F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B9E-438A-48F1-A157-8A274364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21C-B290-4BD9-8EFB-4F74CC6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C9E-6EB3-46EE-B486-76C77C9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B89-CC1F-4084-93B2-F94B589D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48942-5D1A-4D05-BA4B-61943431E8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