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874916"/>
        <c:axId val="3286848"/>
      </c:barChart>
      <c:catAx>
        <c:axId val="158749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86848"/>
        <c:crosses val="autoZero"/>
        <c:auto val="1"/>
        <c:lblAlgn val="ctr"/>
        <c:lblOffset val="100"/>
        <c:noMultiLvlLbl val="0"/>
      </c:catAx>
      <c:valAx>
        <c:axId val="32868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749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9813-ECAF-462D-8A9F-119022422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5EB4-F62B-404F-9990-93D87534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2378-0079-4AE1-9264-9C4CA0119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E0B8-BD12-4005-83EF-D9E3962E5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43EA-8C26-4044-95C9-9A85337F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EB3D-2B78-4823-8FA0-F2E2382F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B6FA-8BC9-4848-9877-857FEEBB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10ED-EC29-479A-A849-8D62708D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57E4-BE0F-4143-B33A-9C3F7422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3BCF-B51B-409E-A010-C26DEE31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C461-D265-4B02-A48F-7F05C401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AE5D-FC8A-41C1-B55A-D7C88879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C5E9A-DA28-4829-B187-2C5A2FEEAD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