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92850"/>
        <c:axId val="76173834"/>
      </c:barChart>
      <c:catAx>
        <c:axId val="85292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73834"/>
        <c:crosses val="autoZero"/>
        <c:auto val="1"/>
        <c:lblAlgn val="ctr"/>
        <c:lblOffset val="100"/>
        <c:noMultiLvlLbl val="0"/>
      </c:catAx>
      <c:valAx>
        <c:axId val="76173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2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A61-5E90-4FE1-B547-8867E186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0CB-9B6D-460E-82B7-799E0524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0A6-85EF-49F3-A068-F41ACCB8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81D-64DB-4ABB-B28D-96FB4FF3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29A-A304-4016-96A2-984FDD31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52E-2970-416E-A8B4-EA4CCC91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000-56FA-47E0-A99D-110758DA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655-A29B-41FF-9235-4F408AA1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489-10F9-4011-9DBB-3813D135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2F9-AAB9-4A57-AEB1-B4624DEB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995-E9ED-485A-9DA7-9B33CB7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6B3-47C5-4D61-A824-F2F26EDC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A9543-AEA5-459A-8B87-AC82A07FF4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