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247068"/>
        <c:axId val="71595189"/>
      </c:barChart>
      <c:catAx>
        <c:axId val="252470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95189"/>
        <c:crosses val="autoZero"/>
        <c:auto val="1"/>
        <c:lblAlgn val="ctr"/>
        <c:lblOffset val="100"/>
        <c:noMultiLvlLbl val="0"/>
      </c:catAx>
      <c:valAx>
        <c:axId val="715951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2470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20DC-4280-4249-AECA-9747BE670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72CE-A2FD-4679-BB54-DBE8F24D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D87D-5337-4501-9366-FC9A03B4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62F0-BD4F-4055-8840-24F5C675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0007-65B2-4FC5-8C0A-F0B0C7B9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B1C0-02B4-4B40-BEB7-1894952F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A634-0BB3-4971-BA2A-51D347A1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140A-5B19-4B23-9CDD-C09F6AEF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3056-A1FC-4629-8F5B-65FBEDF4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D7A7-9ADF-42FD-99A3-D78684BC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7129-DA59-4469-8AB8-9F876233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FDF8-D608-4DFA-8BD9-3066C940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10CF7-9BCD-4676-8D3C-229B368C04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