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64391"/>
        <c:axId val="51573626"/>
      </c:barChart>
      <c:catAx>
        <c:axId val="27864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73626"/>
        <c:crosses val="autoZero"/>
        <c:auto val="1"/>
        <c:lblAlgn val="ctr"/>
        <c:lblOffset val="100"/>
        <c:noMultiLvlLbl val="0"/>
      </c:catAx>
      <c:valAx>
        <c:axId val="51573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4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A5A-7353-46F0-9B87-4F0778A1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58F-B8A8-444B-ACD3-45DA9EB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372-3920-4856-8954-46323B22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2A4-4D37-4C89-8B87-34791C31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57A-4881-4890-A45E-70D7D966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EAD-F4C6-496F-A0B4-B1A7DF36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776-E1D9-43FD-859B-5313CF39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8BE-4F00-4FF1-BACB-3F4A22F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27B-B56B-4DC8-97D6-BF8EC864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CCD-4BD6-4EF8-BFFE-B8C7A4D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2E9-74D6-4A31-95CA-7D2F498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1DF-8FD6-4A60-814A-5B3859C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54D7F-787C-4B65-9ECD-4F122C50BD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