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0759083"/>
        <c:axId val="69248589"/>
      </c:barChart>
      <c:catAx>
        <c:axId val="6075908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248589"/>
        <c:crosses val="autoZero"/>
        <c:auto val="1"/>
        <c:lblAlgn val="ctr"/>
        <c:lblOffset val="100"/>
        <c:noMultiLvlLbl val="0"/>
      </c:catAx>
      <c:valAx>
        <c:axId val="6924858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75908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7432-1826-41AC-831B-93F6CD26A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8E5C-1CFA-48EB-B583-71C044358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CF62-F9AD-49BB-8381-976CC80F9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010D-F8AE-4E45-B934-F2D364941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61DC-2518-4D62-BFCC-56782DC3B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5878-4C19-4B36-AB7B-26D6F47DB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5003-088E-4179-AFC7-D342150AE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39EF-6E47-490B-8B21-8C7EE1881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61C0-E165-4EC3-8526-C2742A51C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2EED-3FF4-44F6-98E9-9E23CC8D2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49F8-8ED3-46FC-9452-354B54C63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0112-5F48-4F51-B784-205C1A7E2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993B83-880E-429C-AC3A-15EBD007341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