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983"/>
        <c:axId val="90299832"/>
      </c:barChart>
      <c:catAx>
        <c:axId val="899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99832"/>
        <c:crosses val="autoZero"/>
        <c:auto val="1"/>
        <c:lblAlgn val="ctr"/>
        <c:lblOffset val="100"/>
        <c:noMultiLvlLbl val="0"/>
      </c:catAx>
      <c:valAx>
        <c:axId val="90299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9AE-895D-48C1-A07B-BB043FF8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9DC-A211-4454-8A9A-132BD531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D4C-AB56-4F4C-ADE2-D649C366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49A-C7B8-43D0-A01F-747A7BFA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052-F70D-4527-AEE0-BC86810A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E2B-AE7D-4284-B246-1629701A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A1F-63DC-4573-AB57-2122FA02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895-3A40-41B9-AD84-80132935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291-5397-4BAD-8D9F-7132A566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B78-C5C3-4DE6-BD5B-A6BCDC0A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1FF-15DE-4684-A5E2-7A30ECC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29C-B51A-4007-BB4F-8D82AC4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6D800-94AD-4FDE-AC88-F7DDCBB42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